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B7F-367E-416C-9F40-139E3361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C19-B3B3-4EEB-938C-C0253A1C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6EB-3A1D-4C80-9266-D0C8DDF7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195-172A-4FE4-8226-9DDD4CC8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7F8-94E0-46D3-9D85-DD1447B5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4A-97A6-4FC7-AB83-0F0FDB0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1E7-A147-470B-85C0-E0946A9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9B1-2000-4E4F-8D36-CB6F3C2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022-00DC-4034-BF05-F014999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164-28B8-4389-B9F1-609BF81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BB5-F17D-44AD-85B0-CF8FB10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44A-EAC9-489E-9DD4-5A88CEF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2A38-FF25-4BAB-8180-628C7F58F4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Arial"/>
              </a:rPr>
              <a:t>LA PRÁCTICA PSICOMOTRIZ EDUCATIVA: ACOUTU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684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JUEGOS DE ASEGURACIÓN PROFUND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6 a 8 meses a 2 a 3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Rectángulo"/>
          <p:cNvSpPr/>
          <p:nvPr/>
        </p:nvSpPr>
        <p:spPr>
          <a:xfrm>
            <a:off x="4786200" y="128592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El placer del </a:t>
            </a:r>
            <a:r>
              <a:rPr b="1" lang="es-CL" sz="2400" spc="-1" strike="noStrike">
                <a:solidFill>
                  <a:srgbClr val="222268"/>
                </a:solidFill>
                <a:latin typeface="Calibri"/>
              </a:rPr>
              <a:t>juego sensoriomotor: </a:t>
            </a: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conquista posturales y de movimiento; equilibrarse y desequilibr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6 Marcador de contenido"/>
          <p:cNvGrpSpPr/>
          <p:nvPr/>
        </p:nvGrpSpPr>
        <p:grpSpPr>
          <a:xfrm>
            <a:off x="444600" y="1420920"/>
            <a:ext cx="4640040" cy="4717800"/>
            <a:chOff x="444600" y="1420920"/>
            <a:chExt cx="4640040" cy="4717800"/>
          </a:xfrm>
        </p:grpSpPr>
        <p:pic>
          <p:nvPicPr>
            <p:cNvPr id="75" name="6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420920"/>
              <a:ext cx="464004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133640" y="2122560"/>
              <a:ext cx="3262320" cy="33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Diagrama" descr=""/>
          <p:cNvPicPr/>
          <p:nvPr/>
        </p:nvPicPr>
        <p:blipFill>
          <a:blip r:embed="rId1"/>
          <a:stretch/>
        </p:blipFill>
        <p:spPr>
          <a:xfrm>
            <a:off x="274680" y="285840"/>
            <a:ext cx="68817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85840" y="999720"/>
            <a:ext cx="40006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niño /a </a:t>
            </a:r>
            <a:r>
              <a:rPr b="1" i="1" lang="es-CL" sz="2000" spc="-1" strike="noStrike">
                <a:solidFill>
                  <a:srgbClr val="222268"/>
                </a:solidFill>
                <a:latin typeface="Calibri"/>
              </a:rPr>
              <a:t>debe reunirse con su cuerpo 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n una relación armónica, explorada, tocada, mirada, escuchada y vivenciada; le permitirá la unificación y representatividad de este cuerpo infinito, que se busca y buscará por todo el ciclo vital; una búsqueda con un “otro” como esp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.P.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3280" y="476280"/>
            <a:ext cx="4042080" cy="33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62673"/>
                </a:solidFill>
                <a:latin typeface="Calibri"/>
              </a:rPr>
              <a:t>Bernard Aucouturier (Tours, 08/04/1934) es un pedagogo psicomotricista francés, creador de la práctica psicomotriz. Fue profesor y director del Centro de Educación Física Especializado de Tours, Francia. Es el fundador de la Asociación Europea de Escuelas de Práctica Psicomotr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7920" y="26028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48" name="1 CuadroTexto"/>
          <p:cNvSpPr/>
          <p:nvPr/>
        </p:nvSpPr>
        <p:spPr>
          <a:xfrm>
            <a:off x="468360" y="4508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62673"/>
                </a:solidFill>
                <a:latin typeface="Calibri"/>
              </a:rPr>
              <a:t>La Práctica Psicomotrjz educativa y preventiva,es llevada a cabo en la institución educativa por un psicomotricista, tiene como objetivo estratégico el apuntalamiento de los factores facilitadores de la maduración del niño a través de la vía sensoriomotora. Abarca los primeros 5 años de vida, particularmente, los primeros 24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43240" y="-142920"/>
            <a:ext cx="5626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73"/>
                </a:solidFill>
                <a:latin typeface="Arial"/>
              </a:rPr>
              <a:t>LOS FANTASMAS DE LA ACCIÓ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643720" y="1571760"/>
            <a:ext cx="3311280" cy="4752720"/>
          </a:xfrm>
          <a:prstGeom prst="rect">
            <a:avLst/>
          </a:prstGeom>
          <a:ln w="0">
            <a:noFill/>
          </a:ln>
        </p:spPr>
      </p:pic>
      <p:pic>
        <p:nvPicPr>
          <p:cNvPr id="52" name="4 Diagrama" descr=""/>
          <p:cNvPicPr/>
          <p:nvPr/>
        </p:nvPicPr>
        <p:blipFill>
          <a:blip r:embed="rId2"/>
          <a:stretch/>
        </p:blipFill>
        <p:spPr>
          <a:xfrm>
            <a:off x="384120" y="255600"/>
            <a:ext cx="4919760" cy="5907240"/>
          </a:xfrm>
          <a:prstGeom prst="rect">
            <a:avLst/>
          </a:prstGeom>
          <a:ln w="0">
            <a:noFill/>
          </a:ln>
        </p:spPr>
      </p:pic>
      <p:sp>
        <p:nvSpPr>
          <p:cNvPr id="53" name="5 Flecha abajo"/>
          <p:cNvSpPr/>
          <p:nvPr/>
        </p:nvSpPr>
        <p:spPr>
          <a:xfrm>
            <a:off x="4214880" y="1928880"/>
            <a:ext cx="504720" cy="4176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6 Rectángulo redondeado" descr=""/>
          <p:cNvPicPr/>
          <p:nvPr/>
        </p:nvPicPr>
        <p:blipFill>
          <a:blip r:embed="rId3"/>
          <a:stretch/>
        </p:blipFill>
        <p:spPr>
          <a:xfrm>
            <a:off x="4906800" y="1474920"/>
            <a:ext cx="646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ul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174760"/>
          <a:ext cx="4040280" cy="37152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62673"/>
                </a:solidFill>
                <a:latin typeface="Arial"/>
              </a:rPr>
              <a:t>PUL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280" y="1341360"/>
            <a:ext cx="446580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7 CuadroTexto"/>
          <p:cNvSpPr/>
          <p:nvPr/>
        </p:nvSpPr>
        <p:spPr>
          <a:xfrm>
            <a:off x="4857840" y="357120"/>
            <a:ext cx="3671640" cy="13136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Movimiento interno, tónico- afectivo, permite </a:t>
            </a:r>
            <a:r>
              <a:rPr b="1" lang="es-CL" sz="2000" spc="-1" strike="noStrike">
                <a:solidFill>
                  <a:srgbClr val="262673"/>
                </a:solidFill>
                <a:latin typeface="Calibri"/>
              </a:rPr>
              <a:t>evocar </a:t>
            </a: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sensaciones y el </a:t>
            </a:r>
            <a:r>
              <a:rPr b="1" lang="es-CL" sz="2000" spc="-1" strike="noStrike">
                <a:solidFill>
                  <a:srgbClr val="262673"/>
                </a:solidFill>
                <a:latin typeface="Calibri"/>
              </a:rPr>
              <a:t>placer</a:t>
            </a: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 que los acompaña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1 Forma libre"/>
          <p:cNvSpPr/>
          <p:nvPr/>
        </p:nvSpPr>
        <p:spPr>
          <a:xfrm>
            <a:off x="5715000" y="1785960"/>
            <a:ext cx="1871640" cy="4487760"/>
          </a:xfrm>
          <a:custGeom>
            <a:avLst/>
            <a:gdLst/>
            <a:ahLst/>
            <a:rect l="l" t="t" r="r" b="b"/>
            <a:pathLst>
              <a:path w="1872179" h="4488465">
                <a:moveTo>
                  <a:pt x="829994" y="94896"/>
                </a:moveTo>
                <a:cubicBezTo>
                  <a:pt x="778413" y="99585"/>
                  <a:pt x="725894" y="98112"/>
                  <a:pt x="675250" y="108964"/>
                </a:cubicBezTo>
                <a:cubicBezTo>
                  <a:pt x="658718" y="112507"/>
                  <a:pt x="648169" y="129538"/>
                  <a:pt x="633047" y="137099"/>
                </a:cubicBezTo>
                <a:cubicBezTo>
                  <a:pt x="619784" y="143731"/>
                  <a:pt x="604912" y="146478"/>
                  <a:pt x="590844" y="151167"/>
                </a:cubicBezTo>
                <a:cubicBezTo>
                  <a:pt x="581465" y="169924"/>
                  <a:pt x="573113" y="189229"/>
                  <a:pt x="562708" y="207437"/>
                </a:cubicBezTo>
                <a:cubicBezTo>
                  <a:pt x="554320" y="222116"/>
                  <a:pt x="535377" y="232752"/>
                  <a:pt x="534573" y="249640"/>
                </a:cubicBezTo>
                <a:cubicBezTo>
                  <a:pt x="534327" y="254797"/>
                  <a:pt x="524562" y="468771"/>
                  <a:pt x="562708" y="545062"/>
                </a:cubicBezTo>
                <a:cubicBezTo>
                  <a:pt x="570269" y="560184"/>
                  <a:pt x="581465" y="573197"/>
                  <a:pt x="590844" y="587265"/>
                </a:cubicBezTo>
                <a:cubicBezTo>
                  <a:pt x="602286" y="621592"/>
                  <a:pt x="605775" y="644399"/>
                  <a:pt x="633047" y="671671"/>
                </a:cubicBezTo>
                <a:cubicBezTo>
                  <a:pt x="645002" y="683626"/>
                  <a:pt x="661492" y="689980"/>
                  <a:pt x="675250" y="699807"/>
                </a:cubicBezTo>
                <a:cubicBezTo>
                  <a:pt x="797350" y="787023"/>
                  <a:pt x="674294" y="703861"/>
                  <a:pt x="773724" y="770145"/>
                </a:cubicBezTo>
                <a:cubicBezTo>
                  <a:pt x="811238" y="765456"/>
                  <a:pt x="850399" y="768032"/>
                  <a:pt x="886265" y="756077"/>
                </a:cubicBezTo>
                <a:cubicBezTo>
                  <a:pt x="937496" y="739000"/>
                  <a:pt x="943738" y="699004"/>
                  <a:pt x="984739" y="671671"/>
                </a:cubicBezTo>
                <a:cubicBezTo>
                  <a:pt x="997077" y="663446"/>
                  <a:pt x="1012614" y="661425"/>
                  <a:pt x="1026942" y="657604"/>
                </a:cubicBezTo>
                <a:cubicBezTo>
                  <a:pt x="1082986" y="642659"/>
                  <a:pt x="1139483" y="629468"/>
                  <a:pt x="1195754" y="615400"/>
                </a:cubicBezTo>
                <a:lnTo>
                  <a:pt x="1252025" y="601333"/>
                </a:lnTo>
                <a:lnTo>
                  <a:pt x="1392702" y="629468"/>
                </a:lnTo>
                <a:cubicBezTo>
                  <a:pt x="1411607" y="633519"/>
                  <a:pt x="1435302" y="629865"/>
                  <a:pt x="1448973" y="643536"/>
                </a:cubicBezTo>
                <a:cubicBezTo>
                  <a:pt x="1480254" y="674817"/>
                  <a:pt x="1488030" y="724796"/>
                  <a:pt x="1519311" y="756077"/>
                </a:cubicBezTo>
                <a:lnTo>
                  <a:pt x="1547447" y="784213"/>
                </a:lnTo>
                <a:cubicBezTo>
                  <a:pt x="1605596" y="929586"/>
                  <a:pt x="1536547" y="783746"/>
                  <a:pt x="1631853" y="910822"/>
                </a:cubicBezTo>
                <a:cubicBezTo>
                  <a:pt x="1644435" y="927599"/>
                  <a:pt x="1651727" y="947818"/>
                  <a:pt x="1659988" y="967093"/>
                </a:cubicBezTo>
                <a:cubicBezTo>
                  <a:pt x="1665829" y="980723"/>
                  <a:pt x="1665831" y="996958"/>
                  <a:pt x="1674056" y="1009296"/>
                </a:cubicBezTo>
                <a:cubicBezTo>
                  <a:pt x="1685092" y="1025849"/>
                  <a:pt x="1702191" y="1037431"/>
                  <a:pt x="1716259" y="1051499"/>
                </a:cubicBezTo>
                <a:cubicBezTo>
                  <a:pt x="1720948" y="1070256"/>
                  <a:pt x="1720937" y="1090869"/>
                  <a:pt x="1730327" y="1107770"/>
                </a:cubicBezTo>
                <a:cubicBezTo>
                  <a:pt x="1750501" y="1144084"/>
                  <a:pt x="1784971" y="1176482"/>
                  <a:pt x="1814733" y="1206244"/>
                </a:cubicBezTo>
                <a:cubicBezTo>
                  <a:pt x="1819422" y="1220312"/>
                  <a:pt x="1821171" y="1235732"/>
                  <a:pt x="1828800" y="1248447"/>
                </a:cubicBezTo>
                <a:cubicBezTo>
                  <a:pt x="1835624" y="1259820"/>
                  <a:pt x="1851004" y="1264719"/>
                  <a:pt x="1856936" y="1276582"/>
                </a:cubicBezTo>
                <a:cubicBezTo>
                  <a:pt x="1865583" y="1293875"/>
                  <a:pt x="1866315" y="1314096"/>
                  <a:pt x="1871004" y="1332853"/>
                </a:cubicBezTo>
                <a:cubicBezTo>
                  <a:pt x="1866315" y="1375056"/>
                  <a:pt x="1872179" y="1419830"/>
                  <a:pt x="1856936" y="1459462"/>
                </a:cubicBezTo>
                <a:cubicBezTo>
                  <a:pt x="1847414" y="1484220"/>
                  <a:pt x="1821379" y="1499162"/>
                  <a:pt x="1800665" y="1515733"/>
                </a:cubicBezTo>
                <a:cubicBezTo>
                  <a:pt x="1774260" y="1536857"/>
                  <a:pt x="1749064" y="1563803"/>
                  <a:pt x="1716259" y="1572004"/>
                </a:cubicBezTo>
                <a:cubicBezTo>
                  <a:pt x="1645602" y="1589667"/>
                  <a:pt x="1678330" y="1579957"/>
                  <a:pt x="1617785" y="1600139"/>
                </a:cubicBezTo>
                <a:cubicBezTo>
                  <a:pt x="1599028" y="1614207"/>
                  <a:pt x="1582010" y="1630956"/>
                  <a:pt x="1561514" y="1642342"/>
                </a:cubicBezTo>
                <a:cubicBezTo>
                  <a:pt x="1497980" y="1677639"/>
                  <a:pt x="1478485" y="1670202"/>
                  <a:pt x="1406770" y="1684545"/>
                </a:cubicBezTo>
                <a:cubicBezTo>
                  <a:pt x="1387811" y="1688337"/>
                  <a:pt x="1369152" y="1693526"/>
                  <a:pt x="1350499" y="1698613"/>
                </a:cubicBezTo>
                <a:cubicBezTo>
                  <a:pt x="1317564" y="1707595"/>
                  <a:pt x="1285745" y="1721424"/>
                  <a:pt x="1252025" y="1726748"/>
                </a:cubicBezTo>
                <a:cubicBezTo>
                  <a:pt x="1196250" y="1735555"/>
                  <a:pt x="1139484" y="1736127"/>
                  <a:pt x="1083213" y="1740816"/>
                </a:cubicBezTo>
                <a:cubicBezTo>
                  <a:pt x="928468" y="1736127"/>
                  <a:pt x="770788" y="1757110"/>
                  <a:pt x="618979" y="1726748"/>
                </a:cubicBezTo>
                <a:cubicBezTo>
                  <a:pt x="527094" y="1708371"/>
                  <a:pt x="531590" y="1626912"/>
                  <a:pt x="492370" y="1572004"/>
                </a:cubicBezTo>
                <a:cubicBezTo>
                  <a:pt x="480806" y="1555815"/>
                  <a:pt x="462903" y="1545084"/>
                  <a:pt x="450167" y="1529800"/>
                </a:cubicBezTo>
                <a:cubicBezTo>
                  <a:pt x="439343" y="1516811"/>
                  <a:pt x="431410" y="1501665"/>
                  <a:pt x="422031" y="1487597"/>
                </a:cubicBezTo>
                <a:cubicBezTo>
                  <a:pt x="417342" y="1473529"/>
                  <a:pt x="415593" y="1458109"/>
                  <a:pt x="407964" y="1445394"/>
                </a:cubicBezTo>
                <a:cubicBezTo>
                  <a:pt x="401140" y="1434021"/>
                  <a:pt x="381148" y="1430456"/>
                  <a:pt x="379828" y="1417259"/>
                </a:cubicBezTo>
                <a:cubicBezTo>
                  <a:pt x="377741" y="1396387"/>
                  <a:pt x="398575" y="1268807"/>
                  <a:pt x="407964" y="1234379"/>
                </a:cubicBezTo>
                <a:cubicBezTo>
                  <a:pt x="415767" y="1205767"/>
                  <a:pt x="426721" y="1178108"/>
                  <a:pt x="436099" y="1149973"/>
                </a:cubicBezTo>
                <a:cubicBezTo>
                  <a:pt x="440788" y="1135905"/>
                  <a:pt x="447259" y="1122311"/>
                  <a:pt x="450167" y="1107770"/>
                </a:cubicBezTo>
                <a:cubicBezTo>
                  <a:pt x="450868" y="1104264"/>
                  <a:pt x="466765" y="1009649"/>
                  <a:pt x="478302" y="995228"/>
                </a:cubicBezTo>
                <a:cubicBezTo>
                  <a:pt x="502589" y="964869"/>
                  <a:pt x="542987" y="961472"/>
                  <a:pt x="576776" y="953025"/>
                </a:cubicBezTo>
                <a:cubicBezTo>
                  <a:pt x="590844" y="943647"/>
                  <a:pt x="605221" y="934717"/>
                  <a:pt x="618979" y="924890"/>
                </a:cubicBezTo>
                <a:cubicBezTo>
                  <a:pt x="638058" y="911262"/>
                  <a:pt x="653905" y="892389"/>
                  <a:pt x="675250" y="882687"/>
                </a:cubicBezTo>
                <a:cubicBezTo>
                  <a:pt x="695697" y="873393"/>
                  <a:pt x="795323" y="849151"/>
                  <a:pt x="829994" y="840484"/>
                </a:cubicBezTo>
                <a:cubicBezTo>
                  <a:pt x="844062" y="831105"/>
                  <a:pt x="857075" y="819909"/>
                  <a:pt x="872197" y="812348"/>
                </a:cubicBezTo>
                <a:cubicBezTo>
                  <a:pt x="885460" y="805716"/>
                  <a:pt x="901684" y="805909"/>
                  <a:pt x="914400" y="798280"/>
                </a:cubicBezTo>
                <a:cubicBezTo>
                  <a:pt x="925773" y="791456"/>
                  <a:pt x="932179" y="778430"/>
                  <a:pt x="942536" y="770145"/>
                </a:cubicBezTo>
                <a:cubicBezTo>
                  <a:pt x="955738" y="759583"/>
                  <a:pt x="970671" y="751388"/>
                  <a:pt x="984739" y="742010"/>
                </a:cubicBezTo>
                <a:cubicBezTo>
                  <a:pt x="1065567" y="795895"/>
                  <a:pt x="1014987" y="758190"/>
                  <a:pt x="1125416" y="868619"/>
                </a:cubicBezTo>
                <a:cubicBezTo>
                  <a:pt x="1139484" y="882687"/>
                  <a:pt x="1148318" y="905997"/>
                  <a:pt x="1167619" y="910822"/>
                </a:cubicBezTo>
                <a:cubicBezTo>
                  <a:pt x="1238276" y="928487"/>
                  <a:pt x="1205548" y="918776"/>
                  <a:pt x="1266093" y="938957"/>
                </a:cubicBezTo>
                <a:cubicBezTo>
                  <a:pt x="1280161" y="924889"/>
                  <a:pt x="1291743" y="907789"/>
                  <a:pt x="1308296" y="896754"/>
                </a:cubicBezTo>
                <a:cubicBezTo>
                  <a:pt x="1320634" y="888529"/>
                  <a:pt x="1336869" y="888528"/>
                  <a:pt x="1350499" y="882687"/>
                </a:cubicBezTo>
                <a:cubicBezTo>
                  <a:pt x="1369774" y="874426"/>
                  <a:pt x="1388987" y="865666"/>
                  <a:pt x="1406770" y="854551"/>
                </a:cubicBezTo>
                <a:cubicBezTo>
                  <a:pt x="1426652" y="842125"/>
                  <a:pt x="1445028" y="827358"/>
                  <a:pt x="1463040" y="812348"/>
                </a:cubicBezTo>
                <a:cubicBezTo>
                  <a:pt x="1473229" y="803857"/>
                  <a:pt x="1480140" y="791570"/>
                  <a:pt x="1491176" y="784213"/>
                </a:cubicBezTo>
                <a:cubicBezTo>
                  <a:pt x="1508625" y="772580"/>
                  <a:pt x="1528690" y="765456"/>
                  <a:pt x="1547447" y="756077"/>
                </a:cubicBezTo>
                <a:cubicBezTo>
                  <a:pt x="1556825" y="742009"/>
                  <a:pt x="1568021" y="728996"/>
                  <a:pt x="1575582" y="713874"/>
                </a:cubicBezTo>
                <a:cubicBezTo>
                  <a:pt x="1604751" y="655536"/>
                  <a:pt x="1590496" y="595621"/>
                  <a:pt x="1575582" y="530994"/>
                </a:cubicBezTo>
                <a:cubicBezTo>
                  <a:pt x="1571780" y="514520"/>
                  <a:pt x="1556825" y="502859"/>
                  <a:pt x="1547447" y="488791"/>
                </a:cubicBezTo>
                <a:cubicBezTo>
                  <a:pt x="1526035" y="381732"/>
                  <a:pt x="1550418" y="451045"/>
                  <a:pt x="1491176" y="362182"/>
                </a:cubicBezTo>
                <a:cubicBezTo>
                  <a:pt x="1476009" y="339432"/>
                  <a:pt x="1467138" y="312280"/>
                  <a:pt x="1448973" y="291844"/>
                </a:cubicBezTo>
                <a:cubicBezTo>
                  <a:pt x="1429025" y="269402"/>
                  <a:pt x="1399866" y="256805"/>
                  <a:pt x="1378634" y="235573"/>
                </a:cubicBezTo>
                <a:cubicBezTo>
                  <a:pt x="1362055" y="218994"/>
                  <a:pt x="1351870" y="196947"/>
                  <a:pt x="1336431" y="179302"/>
                </a:cubicBezTo>
                <a:cubicBezTo>
                  <a:pt x="1302066" y="140028"/>
                  <a:pt x="1280649" y="119292"/>
                  <a:pt x="1237957" y="94896"/>
                </a:cubicBezTo>
                <a:cubicBezTo>
                  <a:pt x="1219749" y="84491"/>
                  <a:pt x="1202192" y="71154"/>
                  <a:pt x="1181687" y="66760"/>
                </a:cubicBezTo>
                <a:cubicBezTo>
                  <a:pt x="1135607" y="56886"/>
                  <a:pt x="1087902" y="57382"/>
                  <a:pt x="1041010" y="52693"/>
                </a:cubicBezTo>
                <a:cubicBezTo>
                  <a:pt x="830242" y="0"/>
                  <a:pt x="963387" y="27903"/>
                  <a:pt x="492370" y="52693"/>
                </a:cubicBezTo>
                <a:cubicBezTo>
                  <a:pt x="477562" y="53472"/>
                  <a:pt x="464425" y="62686"/>
                  <a:pt x="450167" y="66760"/>
                </a:cubicBezTo>
                <a:cubicBezTo>
                  <a:pt x="411387" y="77840"/>
                  <a:pt x="346340" y="92264"/>
                  <a:pt x="309490" y="94896"/>
                </a:cubicBezTo>
                <a:cubicBezTo>
                  <a:pt x="206483" y="102254"/>
                  <a:pt x="103163" y="104275"/>
                  <a:pt x="0" y="108964"/>
                </a:cubicBezTo>
                <a:cubicBezTo>
                  <a:pt x="3145" y="134124"/>
                  <a:pt x="13567" y="277273"/>
                  <a:pt x="42204" y="305911"/>
                </a:cubicBezTo>
                <a:cubicBezTo>
                  <a:pt x="82294" y="346002"/>
                  <a:pt x="59303" y="326690"/>
                  <a:pt x="112542" y="362182"/>
                </a:cubicBezTo>
                <a:cubicBezTo>
                  <a:pt x="121920" y="380939"/>
                  <a:pt x="128095" y="401676"/>
                  <a:pt x="140677" y="418453"/>
                </a:cubicBezTo>
                <a:cubicBezTo>
                  <a:pt x="223147" y="528414"/>
                  <a:pt x="173155" y="426052"/>
                  <a:pt x="225084" y="516927"/>
                </a:cubicBezTo>
                <a:cubicBezTo>
                  <a:pt x="235488" y="535135"/>
                  <a:pt x="245856" y="553562"/>
                  <a:pt x="253219" y="573197"/>
                </a:cubicBezTo>
                <a:cubicBezTo>
                  <a:pt x="260008" y="591300"/>
                  <a:pt x="257694" y="612681"/>
                  <a:pt x="267287" y="629468"/>
                </a:cubicBezTo>
                <a:cubicBezTo>
                  <a:pt x="277158" y="646741"/>
                  <a:pt x="295422" y="657603"/>
                  <a:pt x="309490" y="671671"/>
                </a:cubicBezTo>
                <a:cubicBezTo>
                  <a:pt x="328247" y="709185"/>
                  <a:pt x="355587" y="743524"/>
                  <a:pt x="365760" y="784213"/>
                </a:cubicBezTo>
                <a:lnTo>
                  <a:pt x="393896" y="896754"/>
                </a:lnTo>
                <a:cubicBezTo>
                  <a:pt x="398585" y="915511"/>
                  <a:pt x="401850" y="934683"/>
                  <a:pt x="407964" y="953025"/>
                </a:cubicBezTo>
                <a:lnTo>
                  <a:pt x="436099" y="1037431"/>
                </a:lnTo>
                <a:cubicBezTo>
                  <a:pt x="440788" y="1051499"/>
                  <a:pt x="446571" y="1065248"/>
                  <a:pt x="450167" y="1079634"/>
                </a:cubicBezTo>
                <a:cubicBezTo>
                  <a:pt x="467830" y="1150291"/>
                  <a:pt x="458120" y="1117563"/>
                  <a:pt x="478302" y="1178108"/>
                </a:cubicBezTo>
                <a:cubicBezTo>
                  <a:pt x="473613" y="1445394"/>
                  <a:pt x="472716" y="1712774"/>
                  <a:pt x="464234" y="1979967"/>
                </a:cubicBezTo>
                <a:cubicBezTo>
                  <a:pt x="463329" y="2008476"/>
                  <a:pt x="456355" y="2036529"/>
                  <a:pt x="450167" y="2064373"/>
                </a:cubicBezTo>
                <a:cubicBezTo>
                  <a:pt x="446950" y="2078849"/>
                  <a:pt x="446584" y="2096091"/>
                  <a:pt x="436099" y="2106576"/>
                </a:cubicBezTo>
                <a:cubicBezTo>
                  <a:pt x="425614" y="2117061"/>
                  <a:pt x="407964" y="2115955"/>
                  <a:pt x="393896" y="2120644"/>
                </a:cubicBezTo>
                <a:cubicBezTo>
                  <a:pt x="325952" y="2188585"/>
                  <a:pt x="412300" y="2105919"/>
                  <a:pt x="323557" y="2176914"/>
                </a:cubicBezTo>
                <a:cubicBezTo>
                  <a:pt x="223331" y="2257095"/>
                  <a:pt x="383115" y="2146589"/>
                  <a:pt x="253219" y="2233185"/>
                </a:cubicBezTo>
                <a:cubicBezTo>
                  <a:pt x="234462" y="2261320"/>
                  <a:pt x="207641" y="2285512"/>
                  <a:pt x="196948" y="2317591"/>
                </a:cubicBezTo>
                <a:lnTo>
                  <a:pt x="168813" y="2401997"/>
                </a:lnTo>
                <a:cubicBezTo>
                  <a:pt x="173502" y="2613013"/>
                  <a:pt x="175729" y="2824097"/>
                  <a:pt x="182880" y="3035044"/>
                </a:cubicBezTo>
                <a:cubicBezTo>
                  <a:pt x="185110" y="3100822"/>
                  <a:pt x="196948" y="3166175"/>
                  <a:pt x="196948" y="3231991"/>
                </a:cubicBezTo>
                <a:cubicBezTo>
                  <a:pt x="196948" y="3268312"/>
                  <a:pt x="181124" y="3345698"/>
                  <a:pt x="168813" y="3386736"/>
                </a:cubicBezTo>
                <a:cubicBezTo>
                  <a:pt x="160291" y="3415143"/>
                  <a:pt x="150055" y="3443007"/>
                  <a:pt x="140677" y="3471142"/>
                </a:cubicBezTo>
                <a:lnTo>
                  <a:pt x="126610" y="3513345"/>
                </a:lnTo>
                <a:cubicBezTo>
                  <a:pt x="131299" y="3578994"/>
                  <a:pt x="132987" y="3644927"/>
                  <a:pt x="140677" y="3710293"/>
                </a:cubicBezTo>
                <a:cubicBezTo>
                  <a:pt x="146117" y="3756530"/>
                  <a:pt x="162454" y="3753846"/>
                  <a:pt x="182880" y="3794699"/>
                </a:cubicBezTo>
                <a:cubicBezTo>
                  <a:pt x="241119" y="3911176"/>
                  <a:pt x="144456" y="3758166"/>
                  <a:pt x="225084" y="3879105"/>
                </a:cubicBezTo>
                <a:cubicBezTo>
                  <a:pt x="229773" y="3893173"/>
                  <a:pt x="231522" y="3908593"/>
                  <a:pt x="239151" y="3921308"/>
                </a:cubicBezTo>
                <a:cubicBezTo>
                  <a:pt x="245975" y="3932681"/>
                  <a:pt x="261355" y="3937581"/>
                  <a:pt x="267287" y="3949444"/>
                </a:cubicBezTo>
                <a:cubicBezTo>
                  <a:pt x="280550" y="3975970"/>
                  <a:pt x="295422" y="4033850"/>
                  <a:pt x="295422" y="4033850"/>
                </a:cubicBezTo>
                <a:cubicBezTo>
                  <a:pt x="290733" y="4155770"/>
                  <a:pt x="292742" y="4278133"/>
                  <a:pt x="281354" y="4399610"/>
                </a:cubicBezTo>
                <a:cubicBezTo>
                  <a:pt x="273024" y="4488465"/>
                  <a:pt x="279510" y="4484016"/>
                  <a:pt x="239151" y="44840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Flecha abajo"/>
          <p:cNvSpPr/>
          <p:nvPr/>
        </p:nvSpPr>
        <p:spPr>
          <a:xfrm>
            <a:off x="8572680" y="785880"/>
            <a:ext cx="357120" cy="32860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00680" y="4357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VERTIC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3714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estar de pie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Unificado/verti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la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aída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afirmación de sí mismo; abandonarse al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orre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liber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olumpiarse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ac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gira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encontrarse a sí mismo/ pre-n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salta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v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 Marcador de contenido" descr=""/>
          <p:cNvPicPr/>
          <p:nvPr/>
        </p:nvPicPr>
        <p:blipFill>
          <a:blip r:embed="rId1"/>
          <a:stretch/>
        </p:blipFill>
        <p:spPr>
          <a:xfrm>
            <a:off x="-1285920" y="285840"/>
            <a:ext cx="70707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5785920"/>
            <a:ext cx="5486400" cy="5670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Juegos d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4929120"/>
            <a:ext cx="5500800" cy="57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222268"/>
                </a:solidFill>
                <a:latin typeface="Calibri"/>
              </a:rPr>
              <a:t>JUEGOS DE ASEGURACIÓN SUPER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6 Marcador de posición de imagen" descr="DSC_023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7 Flecha abajo"/>
          <p:cNvSpPr/>
          <p:nvPr/>
        </p:nvSpPr>
        <p:spPr>
          <a:xfrm>
            <a:off x="2857680" y="528624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 Marcador de posición de imagen" descr="DSC_0011.JPG"/>
          <p:cNvPicPr/>
          <p:nvPr/>
        </p:nvPicPr>
        <p:blipFill>
          <a:blip r:embed="rId1"/>
          <a:stretch/>
        </p:blipFill>
        <p:spPr>
          <a:xfrm>
            <a:off x="571680" y="285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040" y="4642920"/>
            <a:ext cx="5486400" cy="4194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Jugar “ como s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571680" y="5429160"/>
            <a:ext cx="557208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22268"/>
                </a:solidFill>
                <a:latin typeface="Calibri"/>
              </a:rPr>
              <a:t>Juego simbólico, capacidad del niño o niña de ponerse en el lugar de otro personaje, imitar la realidad que lo rodea dándole una importancia personal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CARLA PATRICIA RODRIGUEZ SEPULVEDA</cp:lastModifiedBy>
  <dcterms:modified xsi:type="dcterms:W3CDTF">2018-07-06T20:23:12Z</dcterms:modified>
  <cp:revision>43</cp:revision>
  <dc:subject/>
  <dc:title>TITLE</dc:title>
</cp:coreProperties>
</file>